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092909"/>
        <c:axId val="63225119"/>
      </c:barChart>
      <c:catAx>
        <c:axId val="310929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25119"/>
        <c:crosses val="autoZero"/>
        <c:auto val="1"/>
        <c:lblAlgn val="ctr"/>
        <c:lblOffset val="100"/>
        <c:noMultiLvlLbl val="0"/>
      </c:catAx>
      <c:valAx>
        <c:axId val="632251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0929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957-D2B5-489A-9D50-84175DEF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E1FC-C6C1-4755-AB76-FA1B0BEA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D76C-D9FD-4883-B9F0-A214084F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4603-10FA-4F29-8168-9F32930F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B89-1609-46BB-8A4F-BA60C194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685-077B-4EAC-A391-C04237AE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F8F3-2FAA-446B-90FF-FB04CDF6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F124-6543-403F-BA32-23C99186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7A8F-2FAA-42FF-B6D1-99F35A64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F835-A6CD-4B28-B710-191F6E07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91A3-B1E3-4C43-9B57-B811DAA21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5C9-A46B-4A15-BF45-7BB9ABEE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5BE410-913C-448D-9CBC-DACAD169EB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