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03020"/>
        <c:axId val="25010868"/>
      </c:barChart>
      <c:catAx>
        <c:axId val="33803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10868"/>
        <c:crosses val="autoZero"/>
        <c:auto val="1"/>
        <c:lblAlgn val="ctr"/>
        <c:lblOffset val="100"/>
        <c:noMultiLvlLbl val="0"/>
      </c:catAx>
      <c:valAx>
        <c:axId val="2501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03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D1E-6CCE-481F-9100-B9F97198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B8B-742F-46AB-BDA6-9BA24C87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93-3534-4F5B-8AB7-A923EEFB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5FD-3234-4A1D-9594-B1ADC4E0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792-BA59-435E-9D59-22DB7231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9E4-7C0C-4EC8-B7FB-BF1EA87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63E-497D-4587-9424-11973517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F3D-A88D-4296-8E5E-ADCA725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82F-9A18-443F-AA8B-F0E5053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270-3C12-413E-AB95-895F7DE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8C-80A4-4B35-8177-6D1E296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A31-9975-415F-988A-A8172A5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2A48-DAD5-439D-B5A6-16EB93E7B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