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69393"/>
        <c:axId val="17137482"/>
      </c:barChart>
      <c:catAx>
        <c:axId val="71869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37482"/>
        <c:crosses val="autoZero"/>
        <c:auto val="1"/>
        <c:lblAlgn val="ctr"/>
        <c:lblOffset val="100"/>
        <c:noMultiLvlLbl val="0"/>
      </c:catAx>
      <c:valAx>
        <c:axId val="17137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69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7E7-00D1-43AE-BBB6-0FD447E5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0B5-81F6-4CAA-967A-AD5C8BF6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655-2E2F-4B64-82DB-1C09E3B8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9FA-C649-4765-81EB-386332C2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8FB-EEFC-4495-8563-C7A84A29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CA0-7561-447D-B976-B0E17E2B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105-7252-4E04-B71A-93C7399F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98B-F631-4796-9BBB-169E759F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860-386D-4D38-96BB-5AE89EBE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98F-DAC6-4145-AD07-A1D732E6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E7E-E2A7-471F-8294-006D2476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998-52F3-41DD-B69F-3D4A964E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68B88-D6C6-43CF-B296-4C5E47595F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