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31511"/>
        <c:axId val="56308303"/>
      </c:barChart>
      <c:catAx>
        <c:axId val="65031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08303"/>
        <c:crosses val="autoZero"/>
        <c:auto val="1"/>
        <c:lblAlgn val="ctr"/>
        <c:lblOffset val="100"/>
        <c:noMultiLvlLbl val="0"/>
      </c:catAx>
      <c:valAx>
        <c:axId val="56308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31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77D-69B3-47E2-B6A9-9BD48B68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03E-E9D2-4070-8189-5F41283A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246-7E4C-4923-B097-2A4E3D4A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518-CC06-4E67-8C68-362409D1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F27-679C-4111-8ECC-5A1A4D93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509-2B12-49E7-8ECE-0E84B7FE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1A6-1167-4504-BE0E-6AD609C6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CBD-67B9-4F32-914D-1E56DB6F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C66-F916-4146-8C38-D2379812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ADF-473C-44AE-9D77-813C66F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FD5-1828-4E79-BB95-4A31541A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83F-AE5D-4D61-ABBB-35FC3282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23496-2988-403B-8C53-6989CFC1C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