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386895"/>
        <c:axId val="41684994"/>
      </c:barChart>
      <c:catAx>
        <c:axId val="163868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684994"/>
        <c:crosses val="autoZero"/>
        <c:auto val="1"/>
        <c:lblAlgn val="ctr"/>
        <c:lblOffset val="100"/>
        <c:noMultiLvlLbl val="0"/>
      </c:catAx>
      <c:valAx>
        <c:axId val="416849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3868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3112-65E0-4064-B3F2-384BB6987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EE0D-2E59-499D-9E0C-B78B94A54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211E-4D58-4AC0-849D-EE8A63F23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EF1B-240B-490D-8E60-5643735AF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FACF-B90C-44E8-8103-95EE69456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67E3-FBA6-4D8C-8C59-6142CF8F6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1681-681C-4484-AF0F-982FB2533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79A7-FDB3-4390-9349-7340F4B1D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737B-FADB-4A2F-A7DB-EFB40E9C5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AFD2-ACF1-4049-B28B-AB1F28192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6395-80C8-411A-B18F-7FE64A076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362D-1068-4896-B58B-F36A7320D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42217B-465E-421E-A3EE-CE3FA347C23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