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13287"/>
        <c:axId val="69311155"/>
      </c:barChart>
      <c:catAx>
        <c:axId val="22613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11155"/>
        <c:crosses val="autoZero"/>
        <c:auto val="1"/>
        <c:lblAlgn val="ctr"/>
        <c:lblOffset val="100"/>
        <c:noMultiLvlLbl val="0"/>
      </c:catAx>
      <c:valAx>
        <c:axId val="69311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13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60F-9363-4669-9E10-2919EEBDA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8B8-70F7-43D9-AD9D-165EB49F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B91-52C5-4723-A974-2CE1212E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418-4BCF-41D4-B2C9-6982D11B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241D-B741-4567-8F29-853CD801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12A8-3BD2-4362-99E8-BA443338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E42-2188-4FFB-A913-8BE36F18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5623-4F43-4D67-9880-9C349672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D1C-5DDE-4CD1-857D-F4728EBC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D15-C80A-4759-B835-48EED087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581-AE20-48D0-B21C-1D28959D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7A1-0EF0-4BFE-BC27-90D15969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F609E-22B7-4920-9F00-B26F073DD1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