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89156"/>
        <c:axId val="3080203"/>
      </c:barChart>
      <c:catAx>
        <c:axId val="79989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203"/>
        <c:crosses val="autoZero"/>
        <c:auto val="1"/>
        <c:lblAlgn val="ctr"/>
        <c:lblOffset val="100"/>
        <c:noMultiLvlLbl val="0"/>
      </c:catAx>
      <c:valAx>
        <c:axId val="3080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9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864-BECD-446D-AB39-F4F0409F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EB6-9303-45E1-9705-AA292F3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418-1B5F-4299-8E28-E1759526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5E4-FC5D-43FA-999B-BD6C3920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463-E61F-4829-973D-28B4E598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3F5-68C4-442C-AB4B-92DA554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331-30EB-40DA-99C8-8C42BF9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7DD-6917-4518-93D8-7E78E19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4CB-73C3-4CAD-AFB1-51F67293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1E7-E87A-4208-96F2-9FAABDB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65B-5537-44DF-B523-AAA8A83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279-3AEC-48F4-A9FC-09B712D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EDFAE-C3DB-49C9-8A3B-F480EF0E9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