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07095"/>
        <c:axId val="31381149"/>
      </c:barChart>
      <c:catAx>
        <c:axId val="57407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81149"/>
        <c:crosses val="autoZero"/>
        <c:auto val="1"/>
        <c:lblAlgn val="ctr"/>
        <c:lblOffset val="100"/>
        <c:noMultiLvlLbl val="0"/>
      </c:catAx>
      <c:valAx>
        <c:axId val="31381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07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6B89-4905-4911-9C9D-5CB81F17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4DF9-420B-431C-B7E7-009BD200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45C5-9CD3-4931-9996-D2651EB7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109-7414-4A9E-9DB5-E8606591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DBB-80BF-4100-96DD-80375668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349-96C1-425B-AE96-9E2AF5FB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CC0-7C85-4EF1-A883-0169551A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E84-5F40-43BC-82CF-D09CAEA4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213-6B0F-4239-89F5-A7D93A09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AE7-D4EA-43E2-86FE-811235CC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65B9-6011-4F9A-8BCB-A87CE7C8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C4E-3257-494D-8279-EFCD0BFB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4F8A8-2A4E-4813-8FF2-14740A283F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