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31548"/>
        <c:axId val="17312796"/>
      </c:barChart>
      <c:catAx>
        <c:axId val="22731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12796"/>
        <c:crosses val="autoZero"/>
        <c:auto val="1"/>
        <c:lblAlgn val="ctr"/>
        <c:lblOffset val="100"/>
        <c:noMultiLvlLbl val="0"/>
      </c:catAx>
      <c:valAx>
        <c:axId val="17312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31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44E-ED9D-4F25-919F-DD098DE7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169-1A8A-4F4F-A21E-5BBDB683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D8D-FCB0-47D1-B930-D959C23D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95D-1035-4D8C-A3A3-9F7B8F96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A45-A050-4D68-946B-733D7598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2FE-476C-4EE7-9150-84582E1C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D35-F4B3-4942-8E6D-C03F677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DB5-0AC2-4DC9-8E39-E2EFC99B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800-BE4C-4DAE-A0EF-D94DDE4A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E5E-270F-47FC-AFCB-16BDF62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5F2-8D25-4D17-8D25-C506759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5BC-7CB2-41DF-A311-CBF9E98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4BC8A-386A-49DE-86FF-5ED51FE1C4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