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3543202"/>
        <c:axId val="83652792"/>
      </c:barChart>
      <c:catAx>
        <c:axId val="3354320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3652792"/>
        <c:crosses val="autoZero"/>
        <c:auto val="1"/>
        <c:lblAlgn val="ctr"/>
        <c:lblOffset val="100"/>
        <c:noMultiLvlLbl val="0"/>
      </c:catAx>
      <c:valAx>
        <c:axId val="8365279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354320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E14FD-5DAB-4847-988E-215CD753D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F8749-5625-4218-8530-252A38BE1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FCE22-2EAC-4727-9908-178C5CDD5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23CCF-4071-4E38-837D-EEE22CF91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1AEA4-1393-476C-B052-26FD270AC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5BFDD-40EF-4E84-A249-7662EF41D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68B24-0E57-4712-A348-0E9C00441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F3B7F-6094-4435-89F8-78CECBC40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CD9B6-DC50-4C89-9AAF-56BF4BB14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088D5-491D-4F1F-B852-8323556C1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5E31E-6125-4A1C-93ED-4198211C2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0134F-8CEB-4738-BE8B-2CFC79FA3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AA511A-DE42-446E-833B-C0330844864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