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72572"/>
        <c:axId val="78325478"/>
      </c:barChart>
      <c:catAx>
        <c:axId val="18472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25478"/>
        <c:crosses val="autoZero"/>
        <c:auto val="1"/>
        <c:lblAlgn val="ctr"/>
        <c:lblOffset val="100"/>
        <c:noMultiLvlLbl val="0"/>
      </c:catAx>
      <c:valAx>
        <c:axId val="78325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72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BFF-272E-4E85-A232-66CBF960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851-4B45-4189-A674-070ABD55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DEA-9C59-45DE-8FBC-0DC8B393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386-25EF-4F44-92A5-AAF7642E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A11-796B-45A8-888D-B23F6E19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BA3-7073-4174-9C89-5E103911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68B-1FE3-415D-9D81-8CCF5CBD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4A0-F49D-48AD-8301-64C622A5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C5D-739B-46CA-A194-23D7D33A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69A-05B7-44F8-940C-2E776009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D3E-270B-4021-B6A5-B16610DD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A56-6EFD-4AA4-9C15-6BAD3EA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3B198-5F7F-4217-B470-655B688C1E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