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51297"/>
        <c:axId val="72290625"/>
      </c:barChart>
      <c:catAx>
        <c:axId val="49151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0625"/>
        <c:crosses val="autoZero"/>
        <c:auto val="1"/>
        <c:lblAlgn val="ctr"/>
        <c:lblOffset val="100"/>
        <c:noMultiLvlLbl val="0"/>
      </c:catAx>
      <c:valAx>
        <c:axId val="72290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51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DF9-E2E4-48D9-BDC5-8F5E80A6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961-9EB2-4D8C-98DB-66C37A52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6BE-94A3-4190-A0E7-D1EA2B27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A4E-7658-4C92-BF14-55B50A28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CDC-E7B4-490E-AC8D-E1BF066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9F7-4958-4078-8E91-417DBDBB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8F3-07F5-4FCF-A8B0-2E10F41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274-4348-41EF-8E1D-2A8516E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645-9541-4C06-9AEC-9C020B28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3A5-2AED-4F11-8F14-2C45302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A2A-ED03-4582-A425-3A11060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357-4577-4CBD-B861-C91D5DD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FFA61-ED6A-4047-B933-37A1C208C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