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71623"/>
        <c:axId val="47471229"/>
      </c:barChart>
      <c:catAx>
        <c:axId val="46771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71229"/>
        <c:crosses val="autoZero"/>
        <c:auto val="1"/>
        <c:lblAlgn val="ctr"/>
        <c:lblOffset val="100"/>
        <c:noMultiLvlLbl val="0"/>
      </c:catAx>
      <c:valAx>
        <c:axId val="47471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1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D02-CF13-46F4-B977-EDFA581E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F06-9033-4D6D-A6ED-8B51DA7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4E0-AC32-4682-A998-B58EB131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F33-A1E4-4C30-B3FB-05E4F74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BC5-5925-4679-8869-EFC6846A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DA4-1C11-401C-9F69-B7C971C6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7613-0CDA-42E1-8CDF-4D036A62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33E-461E-4C15-B2F5-68F2056E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1E2-8D4A-4867-BD09-152DDDC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6E7-F9B0-4B6A-B237-FC471FE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CAA-0568-4E2D-8AA5-50A8AEC3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A30-AA09-4702-8136-95B0FAF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4EAE-ED05-4D89-90BF-08FA098D4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