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75218"/>
        <c:axId val="62202712"/>
      </c:barChart>
      <c:catAx>
        <c:axId val="52875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02712"/>
        <c:crosses val="autoZero"/>
        <c:auto val="1"/>
        <c:lblAlgn val="ctr"/>
        <c:lblOffset val="100"/>
        <c:noMultiLvlLbl val="0"/>
      </c:catAx>
      <c:valAx>
        <c:axId val="62202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75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2DA-B44D-4FA7-87D5-6C81640F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690-ABE0-463C-8C53-024A82C7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717-F511-448E-8278-35EEDD9E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1EE-521D-4F6B-8786-78FBC7BC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EA0-1587-4245-B28D-41C2851A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F76-2972-48FA-96FA-5A890E8E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17F-7DAD-4CCB-B2FA-5A705FFE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FDD-DE18-4960-BB51-AD90AAD6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57A-20F2-41D1-8687-3EFE06A9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659-3109-44B6-9612-7B3647FC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F64-F106-4226-84AC-C4621A8D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1F9-F14D-44F3-99F7-2B98989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2E5B6-32E9-469F-B507-25C0023045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