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97147"/>
        <c:axId val="14601396"/>
      </c:barChart>
      <c:catAx>
        <c:axId val="74097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01396"/>
        <c:crosses val="autoZero"/>
        <c:auto val="1"/>
        <c:lblAlgn val="ctr"/>
        <c:lblOffset val="100"/>
        <c:noMultiLvlLbl val="0"/>
      </c:catAx>
      <c:valAx>
        <c:axId val="14601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97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22C-E1D2-4547-BEBD-66063B4E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522-BC88-476B-8A85-9FE7141A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19F-6978-4607-B3D0-60F83E62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131-B8D4-4AE8-80B7-071ADD0B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CE5-9431-40E7-8C47-67B44A8E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FE2-9218-43ED-A9F1-B141C710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33A-8A5D-478D-8469-BD7FFD88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779-70E4-4577-92EB-CF6E4332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67B-1D96-4B04-90D0-EC7898C9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A25-8662-4E9C-9900-D8DF6B64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87A-2856-4CB4-BC84-B38DDDCA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AD9-C946-43C3-BDD6-7D7D712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6DB12-29C9-4A6F-8BD1-41599E3D60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